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6ADB-CBE7-436D-83CE-73527AD0B6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5CEE-A19C-48DC-A848-CD729465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DDAC5-59B3-4417-A037-0873EA86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BEC13-BE8B-4347-AEFD-E202E1E2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0250B-8A4C-4E7E-AEFD-8B18BDA2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A73B4-A71C-4C10-8AD0-E62DA6D9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F6537-C2A3-4E80-997E-54BD7113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46A4C-82D7-4A22-81D5-3E623A9F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3112B-94FB-4728-9760-4DCA85D4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53879-F942-4F53-A93D-20FCD34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8890C-3B05-4582-8CE7-024707A94F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CE5D1-E055-47A6-BBFB-67712A0EB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DD05-AB9B-42E6-AC6D-CFFA9BB1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E7FECB-AA7A-47A7-95C9-AA7783AC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F6140-70A2-450D-BD09-35DFE037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17B78-2385-4493-AFC5-7764720F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445CD-AF5B-4795-8042-3D047FB8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E24D7-1F8C-419A-9AFB-766E262D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E5DCB-A9A5-4D47-A2EA-604800B6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C869C-ECBB-412E-BAB5-B2A69427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EBF3B-CA22-49F5-8C3E-6BFFCFC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C0561-2922-4C1F-B3E3-613DB5AF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A57C4-C85A-4F09-8F85-85DC21A2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9919-8A47-40DE-A32E-FDD50C1653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E407D-C60E-42DC-A87F-D6BD57AF04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E8CEC0-2466-476D-9922-C35F42CC4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863106-79BF-44A5-A8BC-168C3BFA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C55F55-77D8-4280-96C8-59C15B95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BC00E3-A6DE-47F5-91F0-81016D61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0B8FED-4414-4FEE-9F2E-D4D9A234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B3F248-8206-4E3A-8D6D-592D2ED8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FE8505-E86A-498B-B7C8-FDADFD88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FE41A1-159F-4D5D-A463-9FB226A5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9F74E7-4F73-415A-A4F1-28F2F40E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37AC4-DAD8-400F-9F40-E0BC54FC1F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95F130-DD57-4D7A-8F5B-85BE1501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4B082-C1E3-471A-86B3-733F64A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C9BF55-EC4F-45F4-BF88-3F800E00AA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98F1F-A319-4B17-9CD5-70C46510BC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4F7EE-2F54-49C0-ACFA-7C8F4569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8BBC1-6F97-40CE-A4F4-3A75F8E8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C9329-A236-4E17-A8C6-84E4A1A9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65FB3-E91B-4407-BD4A-544ADCA3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D4BC3-D0AF-4878-AC72-AD12DE5C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8453B-A929-4B22-83D6-71998AF5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C7394-1DF4-4B9C-9078-D9BC799F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BB4F8-7758-4EF9-9000-BCB6014A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B359A-4CE9-42E7-B82B-8891F81B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D7042-3E02-4BC4-9BF8-05FAD9FD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985FE-A8C6-4109-A576-981152A3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246D0-3E2D-469E-877D-458A59644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CE21C-88F6-422B-9F20-2C6F57C5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C7618-FFF5-47A5-A847-73A96A50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CA80F-4E7D-478E-9ADF-66245C16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2A802-C940-4D11-9715-29D5D91D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0058F-76B3-4981-AB3F-07F748C8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573C5-9392-4C7F-9CCD-43908621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6EF22-9ABE-47FB-BCE9-3FA9DB28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A67AB-DF79-4C06-B503-01738405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DA482-60D0-41B4-AB70-F63B0964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1A8A2-6509-4225-B93A-29EAE44B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EEA2B-9CBD-4841-9BF2-2D2D5424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E197B-0A90-4232-9919-A4FF8BA6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27B5C-E0A1-4F5B-A74B-13407970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4427F-B63E-419B-A881-FB12E8A9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3CCC1-B7B1-47FD-8BEF-6B9A1D26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4DB5D-B44A-4ED3-AD1E-57F89F41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CD367-3E72-4B98-BD45-1D41549C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9E97-41C7-48EF-BA5C-55F393A9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E4DDB-E9AC-416B-BAFC-BF6B9D5C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2EA22-D0DC-4524-BF95-1F7A948A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08CC4-0A5A-41E1-BA0A-F704D81A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DCBB7-8539-4475-8486-B61DC3F7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88171-48A7-4933-B066-3FDEAA2DC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DAE8-3429-4B9A-9024-E92D6EDD7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8EE1-A7E0-422B-A19B-EBF2E8DF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9EF9-7219-4BF7-9606-6D628FFA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9732-E43F-4A19-B6CF-9F1BDD84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64AC-8448-4089-8845-3DB32E48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EAF7-77CF-4767-91BB-1DD3C3B0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21F1-F159-4606-915E-6425BB30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E45A-28CF-4424-B037-987A182A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6943-5E18-4D04-B4CE-25597320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B1BE-143B-47A9-B4DB-D8785ADA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289E-C025-43F9-9318-FDF4817C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577E-593C-4890-AA98-20E0955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0949-DB8D-4D31-8F4F-3507DB3BC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DF78E-3790-451C-8B2B-BFFA986FF8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C47A1-BC1B-442B-966A-C9E2AB66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5EBAC-34B1-4166-AACA-DCD7C146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6A3B-F064-4B6A-8D25-6EED0831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E3BA7-446D-467C-8228-7536D4B1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AA806-78A7-4566-881F-7766967F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2E3CC-4339-4BFF-9E1A-D688F80C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A8B8C-DC6B-414B-9002-C78CB6B2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0A155-8544-4142-8D3F-9E724748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BC20E-BDD2-43E6-89EA-35279EF8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F8ED3-DF8C-43F0-9E25-326BB8C0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C6229-D2F8-4A1F-90AE-B156038E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569A1-BD51-4452-BDC9-A7DD727AD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4E38F0-76EC-4931-A2E8-2C0608B0F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1FC1-5169-4E92-8F7C-554B75AA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F6523-FC2D-4E72-832A-1850DA64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482D6-37E9-4E3B-A82C-E0E5F328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BD4D8-044F-4E8F-8BD1-660D6BC5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6B109-418F-4A10-BC3C-4EEDAE59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29F551-4354-47CB-AB02-5F2C042B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3855C-E3AE-4721-9E61-AD32E688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23333-F831-4F78-85ED-07C29571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EB450-1C37-4547-836E-FC3F4FBD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FA247-3565-4035-89B4-FAC18486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F9806-2E92-4B35-B593-B2FC8693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FDEE-A669-4F6D-902B-8C467954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73E37-B8FF-4932-B826-2E6565F2C6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4F16-DDCE-4849-94B1-F324E63260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848A-94F6-4BCF-B76B-2B0027BA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C750-9652-444A-AA35-D10C41E0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C9D3-7EFD-4D09-9C78-7ADE2A9C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FEC00-4BB1-455B-A118-A90EF251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1FD0-916C-4834-A5A8-F3B3DF57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0E36D-EDE3-45D1-8BEE-7F119248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25E1C-9A1F-4B47-9D34-D4DAFC1F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B758-61AE-40A4-85A9-46F55201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A80A-CBEB-47B6-A206-3E8FA6D4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5AED4-C760-45D7-A640-7418BE37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581B-E85E-4A01-9F85-E35C9E14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2D9E-81F1-49E3-A44B-9A4F1489B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B37EE-27D7-48CF-8325-FD56F7E465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77E46-FF09-4640-A7C3-DA284164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0F83A-D90D-4395-BF03-8ACEB13F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4B7B9-3261-4D1B-B7DA-EF83758D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D996F-6286-401A-B3FD-6D2921D0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A10E3-71D9-42E0-888D-46091835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520EC-D380-4E15-862D-C089FFDF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E0DB-FA9B-429E-A1A3-5939D30F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E231D-DEC9-4F0C-A45B-B3FBCEB5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51F04-D097-4A67-AF57-7C25935E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04A00-38AB-4054-BC5F-E2BA0EC8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1BA3B-493C-43B8-9393-DDDD4E76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655B3-E790-427D-A731-E42A436A70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DFF372-B323-4C2C-A8E9-503E890B62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D21808-785A-497C-A1AD-CC725F21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26EC6F-2F86-429A-B3B1-141C3BFC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B5DBC4-13BA-46A6-BF5D-77AAE774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5618AD-54A6-4112-8656-D3DF1569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4A7F-9737-414F-B013-944F702B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BA5355-3C3A-483D-88C9-ED999ECD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E0E175-582E-40D2-9CF6-4FF7DA8C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6672CA-C6C6-4601-BC1E-34AA0C8F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126322-CD52-4914-AB74-D354755F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9D3986-F6F2-4FEC-B44C-C358566B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06EE53-36F9-4D9E-BCFF-55357E90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540AE2-AE25-4981-9299-B826EF48F4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F3AD2-26F9-4DD4-BB42-9A900456F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8CA30-D499-4F14-8BB6-A1F25945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EDB3C-87C5-4A24-95CF-B3D14ABA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7BBF0E-BA31-493A-8245-8A0F88E33ECD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547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AD1050-4F25-42B2-817C-7549E2AA4D88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6652DA-6A1C-4EC6-8F35-823C1DC99F23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5960" cy="585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6840" y="274680"/>
            <a:ext cx="6018120" cy="58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29A8BC3-46BD-4C0D-BB47-7D58A25B3D35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B88668-4358-404D-8E46-6A02122AA428}" type="slidenum"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38000"/>
          </a:bodyPr>
          <a:p>
            <a:pPr marL="130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54EC94-54BF-43F3-B1A3-9BBC8F69E383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1CCABC-BEA0-49AA-893D-D8AB0F9DB9C4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3000"/>
          </a:bodyPr>
          <a:p>
            <a:pPr marL="113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B1B1A1-7ACD-4D3D-AF0B-4AF64947AE77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89C207-5976-4BA0-9812-0341EBC03388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2000"/>
          </a:bodyPr>
          <a:p>
            <a:pPr marL="41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2BAB22-11BE-4948-9C64-573FDAD64CB0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61848D-1713-41A4-A183-1D86BD097F9B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5E7D5B-A973-424D-BDC1-7A8C4DD48CBD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34600"/>
            <a:ext cx="3006720" cy="46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608AA6-7900-4012-AD7E-943B39356FC8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720720" y="900000"/>
            <a:ext cx="7764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Knowledge represent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lecture 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Intro to rules and logic refresh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339920" y="49068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ules are code t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other view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ules are code in a rule-programming-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ke different, specialised Prolog's or Datalog'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ow to use a r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n other words, what should rule derive from d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Common ground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almost all rule syste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classical 1st order logic - various limitations)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various exten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hy classical logic? Because it allows to derive all things which generally make sen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'texas'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=&gt; eatingplace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ives eatingplace('texas') and nothing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pplying 1st 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ere are many different - most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xiomatizations and rule systems for log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owever, the practical - and sufficient - way to think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mply th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ind all possible matches with the premisses of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ach match instantiates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rive an instantiated consequence of the r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peat for all matches and all consequences etc etc ad infini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solu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mple core method for practical reaso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logical deriv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d as a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basi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most reasoner implementations, with numerous additions / modifications / strategies / optimis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Just two ru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eneralised modus ponens  (resolution ru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mited instantiation (factorisation ru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solution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eneralised modus pon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 =&gt;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(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X) &amp; S(X)  =&gt; R(X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----------- vars instantiated X:=b, Y:=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(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solution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b) | G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(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X) &amp; S(X)  =&gt; R(X)  |  M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---------------------- X:=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(b) | M(b) | G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serve th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X) &amp; S(X)  =&gt; R(X)  |  M(X) is equivalent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P(X)  | -S(X) |  R(X) |  M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solution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ull ru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1  | A2 ... |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B1 | B2 ... | 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d unify(A1,B1) = substitution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---------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A2 | ... An | B2 ... | Bm)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utting off unified A1 and -B1 and gluing rest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nify(A,B) calculates the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most general unifier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of A and B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t is the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minimal instantiatio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s making As=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nify(P(X,a,Y), P(Z,U,Z)) = {X:=Z, U:=a, Y:=Z 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actorization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X) | P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ule for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gluing together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wo literals in the same disjun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ing the minimal unifi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1 | A2 ... |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d unify(A1,A2) = subst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-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A2 | ... | An)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s a highly specialised (and incomplete!)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f resolution for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horn clauses: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ules with max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teral in the consequ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max one positive literal in a disjunc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rivation direction always from positive (right) side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e rule, giving instantiated antecedent as a resul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R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X) =&gt; R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rives P(a), and then finds contradiction with -P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not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derive R(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nswer 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log query ? R(X)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mean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ad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R(X) | Answer(X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o facts and then searching for contradi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R(X) | Answer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P(X) | R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P(X) | Answer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swer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ectur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hy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cedural and declarative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st order logic refres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mple derivation systems for 1st order logic: re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a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Query: contradiction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serv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acts &amp; Rules =&gt;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is a tautology iff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acts &amp; Rules &amp; -Que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is a contra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hy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Derive new knowledge from existing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earning: automatic creation of new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nferences: apply rules to get new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s the „derived knowledge“ really new or just 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ntrinsic consequence of data + rules? This is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hilosophical question out of the scope of this cour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ul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rom simple to more and more complex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=&gt; eatingplace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&amp; openattime(X,T) =&gt; mayeatattime(X,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&amp; openattime(X,T) &amp; country(X,'Britain') &a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&gt;(age(P),17) &amp; popularity(X,S) =&gt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commendscore('eating',X,T,P,0.8*poptorec(S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cedural &amp; decla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Declarativ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=&gt; eatingplace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ocedu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=fetchobjdata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f (datahasattr_val(d,“type“,“pub“)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torenewdata(x,“prop“,“eatingplace“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f 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cedural &amp; decla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ocedural: database trigg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CREATE OR REPLACE TRIGGER tasuta_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BEFORE INSERT ON tasu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REFERENCING NEW AS NEW OLD A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dec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cursor oic is select kood from isik where kood=:new.i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i oic%ROWTYP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cursor cat is sel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category_i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if ca.tasuta='Y' the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pen o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fetch oic into o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if oic%NOTFOUND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insert into isik (kood) values (:new.ik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close o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elect ticket_sequence.nextval into t_id from du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insert into ticket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ticke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,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eclarative: rules +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clarative rules 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=&gt; eatingplace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eed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ocedural reasoning engin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to actually process data + rules and add new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crete syntax for data and rules which the engine underst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ptional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built-in procedural functions and pred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or convenience and efficiency (arithmetics, st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andling et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eclarative vs proc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o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proc handl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c handling easy to code for specific cases: no need for special syntax, engine api, etc, easy to incorporate arbitrary libraries and program snipp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Con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procedural handl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cursive/iterative handling (derivation chains) hard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gram for procedural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c rules handling code hard to modify and main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chieving efficiency &amp; developing optimisations is very hard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eclarative vs proc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o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decl handl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cursive/iterative handling (derivation chai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c rules handling and maintenance: independcy he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fficiency-targeted optimisations built into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Con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decl handl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nderstanding and using required syn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nderstanding and using engine api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ard to add your own procedural functions/preds from other languages/toolk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Summary: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ngines vs your own code like SQL engines vs  writing code for processing data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1-03-07T09:17:54Z</dcterms:modified>
  <cp:revision>97</cp:revision>
  <dc:subject/>
  <dc:title>RDF and schemaless databases: some notes</dc:title>
</cp:coreProperties>
</file>